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E9E2-9DFB-48DB-A22E-63387CBEA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EA06-4C42-4143-826B-E44AA68A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713A-9377-4CCD-A82B-7E634B71C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006E-70AE-4A9B-9BB2-369D1F37A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C5B7-B285-4C6A-8FBE-84115AB40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ED20-261D-495D-B20B-2FAA6E21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8F20-6005-4871-BA05-C0A00FD4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C25E-0BBD-42CE-87CF-E2DB83BE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7D28-8CE5-44E3-9869-AFE4120D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949F-C42B-42CF-B9E3-9A1BEFF7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4E18E-88F8-47FC-BE6B-516ABD30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F64F-7BFF-440F-A68C-41CA9E8F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0CDC-0A90-4E09-971C-BBB78A90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A84FB-9143-495D-848C-BFF9C3D3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8B47-2A18-4B67-8487-327CF4D1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D8B6-BC72-4F1C-A859-2E6B5F899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214D-9E75-465F-AB41-CE4854370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92F6-40E8-4597-8837-D58C0BD8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9B9E-98DF-469E-92A1-89C4137E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312B-467F-4899-BCB5-8F384B5D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D040-50B5-407B-BD64-91E34415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51A1-0F07-4D61-8C0F-2AD38D34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DE0A-06B3-4049-88B8-903D5EE6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94DA-655F-435C-9D5E-130EF517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5E8F-A6E9-47F6-880D-29B7C1991F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1587-5F92-44C5-AD33-D095560F11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vil R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9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1520" y="1371600"/>
            <a:ext cx="87375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mitt T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mitt Till was an African American boy who was visiting his relatives 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ssippi when he whistled at a white women in a store.  Three days la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white men kidnap him from his house and brutally murder him.  Hi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her decides to have an open casket funeral so people can see wha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ppened to him.  Pictures were taken and were spread nationwide s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 could see the unfairness of the “Jim Crow” laws in the south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tgomery Bus Boyco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f the African American men and women in Montgomery boycott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ing the bus or any other public transportation because of the unfairness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just the seating but also how they were tre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thern School Desegreg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ne African American students were the first African American kids wh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nt to a Public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 High School in Little Rock Arkans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533520"/>
            <a:ext cx="41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vil Rights Major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2280" y="1219320"/>
            <a:ext cx="85345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Violent Pro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. Luther King Jr’s big point was to not promote violence.  Even thoug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hite segregationists were very violent (Emmitt Till) Martin Luth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g Jr. thought it was very important to not take part in the viole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dom R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xed Race groups went down south to help the Civil Rights ca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 against them (segregationist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last leg of the trip they had to be escorted by the polic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on Washing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speeches were given (Martin Luther King Jr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rmingham Church Bomb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rch in Birmingham bombed by white segregation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people killed, 4 of which were little gir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FK Assassin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people start to really think about the viol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t a huge champion of the Civil Rights Mov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533520"/>
            <a:ext cx="41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vil Rights Major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2280" y="1143000"/>
            <a:ext cx="8737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 of Islam/Malcom X/ Black Pan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oted Violence whereas Dr. Martin Luther King Jr. promoted n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olence and pe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in Luther King, J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oted Non Viol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ed a huge role in the Civil Rights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t in the balcony of his motel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ert F. Kennedy Assassin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was shot in his Hotel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ston School Segre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chools designed specifically for African Americans in Boston, lik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of the same schools all throughout the nation, lacked in qualit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oks, qualified teachers, classrooms, and furnitur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oston Senator was threatened by a mod after the schools we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gregat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es that held the new African American students were greeted by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te crowd that were against desegregating the school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09680" y="533520"/>
            <a:ext cx="41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vil Rights Major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15:27:22Z</dcterms:created>
  <dc:creator>Yarmouth Schools</dc:creator>
  <dc:description/>
  <dc:language>en-US</dc:language>
  <cp:lastModifiedBy>YHS Teacher</cp:lastModifiedBy>
  <dcterms:modified xsi:type="dcterms:W3CDTF">2009-06-16T00:43:35Z</dcterms:modified>
  <cp:revision>8</cp:revision>
  <dc:subject/>
  <dc:title>Civil Rights</dc:title>
</cp:coreProperties>
</file>